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5.wmf" ContentType="image/x-wmf"/>
  <Override PartName="/ppt/media/image14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9.jpeg" ContentType="image/jpeg"/>
  <Override PartName="/ppt/media/image30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48960" cy="124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564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C89B2-A62F-4DE3-92A9-F9BFEAF2FF2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14219280" y="-11796840"/>
            <a:ext cx="16594200" cy="124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80" y="4680"/>
            <a:ext cx="11763360" cy="12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0" y="4680"/>
            <a:ext cx="166514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11798280" y="-11796840"/>
            <a:ext cx="11752200" cy="124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11798280" y="-11796840"/>
            <a:ext cx="11772720" cy="124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11798280" y="-11796840"/>
            <a:ext cx="11772720" cy="124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0" y="4680"/>
            <a:ext cx="166514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0" y="4680"/>
            <a:ext cx="166514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1463-B101-4EB7-8835-7A90F3322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0410-DBA5-47D6-BA83-F7F054E4D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2DAE-EEB2-417B-9ECF-B6A6B658B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88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292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88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292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D6E7-1FFC-425D-908E-258C5CBBEA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9404-D2EA-43B2-B78C-CC07B52B1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68BF-B8C1-4663-8722-817A3FCB3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F3C6-21E5-4076-B288-A274561C2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C8C6-8156-41F5-9984-2BADEC2AB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3000"/>
            <a:ext cx="8186760" cy="70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E8F4-CD7D-409A-9BB8-ED638F575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8B0C-C509-4F52-BF57-6164FC0A5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A9AE-8EC0-41F7-AAE3-46B19914F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1072-79B5-4012-AB03-15BDDC6D2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3480"/>
            <a:ext cx="1897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348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543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AE7BA-7EE2-4DE6-B5E8-F2E993EA1412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6.xm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" Target="slide11.xml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comunidades.mda.gov.br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wmf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5920" y="1574640"/>
            <a:ext cx="8883720" cy="5212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2920" y="104760"/>
            <a:ext cx="7353360" cy="824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4000"/>
            <a:ext cx="7715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77320"/>
                <a:tab algn="l" pos="9426600"/>
                <a:tab algn="l" pos="987588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Extrativismo Sustentável: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Políticas Públicas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01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680000" y="2843280"/>
            <a:ext cx="285840" cy="3929040"/>
          </a:xfrm>
          <a:custGeom>
            <a:avLst/>
            <a:gdLst>
              <a:gd name="textAreaLeft" fmla="*/ 360 w 285840"/>
              <a:gd name="textAreaRight" fmla="*/ 103680 w 285840"/>
              <a:gd name="textAreaTop" fmla="*/ 7200 h 3929040"/>
              <a:gd name="textAreaBottom" fmla="*/ 3921840 h 39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"/>
                  <a:pt x="10800" y="131"/>
                </a:cubicBezTo>
                <a:lnTo>
                  <a:pt x="10800" y="3316"/>
                </a:lnTo>
                <a:cubicBezTo>
                  <a:pt x="10800" y="3382"/>
                  <a:pt x="16200" y="3447"/>
                  <a:pt x="21600" y="3447"/>
                </a:cubicBezTo>
                <a:cubicBezTo>
                  <a:pt x="16200" y="3447"/>
                  <a:pt x="10800" y="3513"/>
                  <a:pt x="10800" y="3578"/>
                </a:cubicBezTo>
                <a:lnTo>
                  <a:pt x="10800" y="21469"/>
                </a:lnTo>
                <a:cubicBezTo>
                  <a:pt x="10800" y="2153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10430" dir="722554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484280"/>
            <a:ext cx="3970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inhas de 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421000"/>
            <a:ext cx="843588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squisa, Desenvolvimento Tecnológico e Ino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stência Técnica e Extensão R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paci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édito, Fomento e Incentivos Fis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vulgação e Comun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co Regulató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05840" y="1560600"/>
            <a:ext cx="693720" cy="60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9360" y="2230560"/>
            <a:ext cx="695520" cy="573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205840" y="3505320"/>
            <a:ext cx="693720" cy="60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8205840" y="4194000"/>
            <a:ext cx="689040" cy="517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8205840" y="481644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8205840" y="5479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8205840" y="2859120"/>
            <a:ext cx="689040" cy="579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64000" y="1328760"/>
            <a:ext cx="622440" cy="585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5364000" y="1968480"/>
            <a:ext cx="609840" cy="585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46840" y="2254320"/>
            <a:ext cx="1295280" cy="48096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iro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8248680" y="6175440"/>
            <a:ext cx="587520" cy="58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38920" y="165096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ç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2160" y="289728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rac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2160" y="3557520"/>
            <a:ext cx="1295280" cy="4780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r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2160" y="421164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naú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38920" y="488628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ai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37480" y="557532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q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6840" y="618804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aç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03560" y="2016000"/>
            <a:ext cx="1295640" cy="48096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ta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1365120"/>
            <a:ext cx="1295640" cy="4780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baç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8280" y="1700280"/>
            <a:ext cx="158436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 cará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7360" y="4621320"/>
            <a:ext cx="1584000" cy="895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Territo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3680" y="2852640"/>
            <a:ext cx="1297080" cy="151308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13080"/>
              <a:gd name="textAreaBottom" fmla="*/ 1450080 h 1513080"/>
            </a:gdLst>
            <a:ahLst/>
            <a:rect l="textAreaLeft" t="textAreaTop" r="textAreaRight" b="textAreaBottom"/>
            <a:pathLst>
              <a:path w="21600" h="25196">
                <a:moveTo>
                  <a:pt x="3600" y="0"/>
                </a:moveTo>
                <a:arcTo wR="3600" hR="3600" stAng="16200000" swAng="-5400000"/>
                <a:lnTo>
                  <a:pt x="0" y="21596"/>
                </a:lnTo>
                <a:arcTo wR="3600" hR="3600" stAng="10800000" swAng="-5400000"/>
                <a:lnTo>
                  <a:pt x="18000" y="25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ei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90760" y="2130120"/>
            <a:ext cx="344520" cy="14461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90760" y="3646440"/>
            <a:ext cx="360360" cy="1150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97320" y="1844640"/>
            <a:ext cx="3463920" cy="3240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70040" y="2527200"/>
            <a:ext cx="3390840" cy="2519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435120" y="3213000"/>
            <a:ext cx="3390840" cy="187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16040" y="3789360"/>
            <a:ext cx="3390840" cy="1295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416400" y="5081760"/>
            <a:ext cx="3463920" cy="13744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435120" y="5081400"/>
            <a:ext cx="3390840" cy="7268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416040" y="5081760"/>
            <a:ext cx="3390840" cy="792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416040" y="4437000"/>
            <a:ext cx="3390840" cy="647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2060640"/>
            <a:ext cx="64764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419640" y="1554120"/>
            <a:ext cx="576000" cy="5097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1619280"/>
            <a:ext cx="882036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ADEIAS INICIA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* Babaçu  e  Castanha do Bra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* Relevância socioeconomica e ambi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untas beneficiam 500 mil famílias entre quebradeiras de coco e extrativistas e geram aproximadamente R$ 160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milhões/ano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9280" y="1260360"/>
            <a:ext cx="504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ABAÇ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060640"/>
            <a:ext cx="850752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18 milhões de hecta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400.000 extrativistas envolvidos diretam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1.000.000 de pessoas envolvidas direta ou indiretament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rincipais subprodutos: amêndoa/óleo, mesocarpo, azeite e carvã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9640" y="4859280"/>
            <a:ext cx="2700360" cy="18003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776160"/>
            <a:ext cx="382752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19280"/>
            <a:ext cx="8435880" cy="65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ASTANHA DO BRAS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 milhões de hect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 Est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4 Unidades de Conserv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4 Projetos de Assentamento Susten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ncipais Subprodutos: amêndoa e ó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948360" y="2519280"/>
            <a:ext cx="2195640" cy="4140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9280" y="5219640"/>
            <a:ext cx="197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728720"/>
            <a:ext cx="77659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440000"/>
            <a:ext cx="845964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9880" indent="-2998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EST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tribuições operacionais/delibe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upo de Coordenação do Plano Nacion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DA, MDS, MMA e CON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tribuições consul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âmara Nacional da Sociobiodivers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GTs castanha do Brasil e Babaçu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âmaras estaduais, GTs, APLs, ou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539640" y="63007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8760" y="1420920"/>
            <a:ext cx="8029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Critérios seleção municíp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760" y="2214720"/>
            <a:ext cx="821520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lta produção – castanha ou babaçu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nidade de Conservação (U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erritório da Cidadania (TC) 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peração Arco Ver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10 estados – AM, PA, AC, AP, MT, RO, TO, PI, MA e 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237 municí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796840" y="7361280"/>
            <a:ext cx="845964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BRIGADA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laudia M. Cal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retora de Extrativ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cretaria de Extrativismo e Desenvolvimento Rural Sustentáv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ério do Meio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Verdana"/>
              </a:rPr>
              <a:t>claudia-maria.calorio@mma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Roman"/>
              </a:rPr>
              <a:t>Cona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0360" y="6119640"/>
            <a:ext cx="8388360" cy="540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95280" y="2143080"/>
            <a:ext cx="817884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BRIGADA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lano Nacional da Sociobiodiversidade –PNP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cretaria Executiva – (61) 2020 – 09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comunidades.mda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004840"/>
            <a:ext cx="82090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gregação de Valor e Consolidação de Mercados Susten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Meio Amb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Desenvolvimento Agr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Desenvolvimento Social e Combate à F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nhia Nacional de Abastecimento - CO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1655640"/>
            <a:ext cx="2160720" cy="216072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2501" h="2501">
                <a:moveTo>
                  <a:pt x="1250" y="2500"/>
                </a:moveTo>
                <a:cubicBezTo>
                  <a:pt x="560" y="2500"/>
                  <a:pt x="0" y="1940"/>
                  <a:pt x="0" y="1250"/>
                </a:cubicBezTo>
                <a:cubicBezTo>
                  <a:pt x="0" y="560"/>
                  <a:pt x="560" y="0"/>
                  <a:pt x="1250" y="0"/>
                </a:cubicBezTo>
                <a:cubicBezTo>
                  <a:pt x="1940" y="0"/>
                  <a:pt x="2500" y="560"/>
                  <a:pt x="2500" y="1250"/>
                </a:cubicBezTo>
                <a:cubicBezTo>
                  <a:pt x="2500" y="1940"/>
                  <a:pt x="1940" y="2500"/>
                  <a:pt x="1250" y="25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0720" y="1617840"/>
            <a:ext cx="2160720" cy="21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0000" y="4680000"/>
            <a:ext cx="2160360" cy="2060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4680000"/>
            <a:ext cx="2160720" cy="19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7320" y="1655640"/>
            <a:ext cx="2182680" cy="216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3879720"/>
            <a:ext cx="828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Megabiodiversidade Brasilei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900000" y="1449360"/>
            <a:ext cx="7373880" cy="2179800"/>
            <a:chOff x="900000" y="1449360"/>
            <a:chExt cx="7373880" cy="21798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657520" y="1449360"/>
              <a:ext cx="3717720" cy="21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6445080" y="2522520"/>
              <a:ext cx="18259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6445080" y="1449360"/>
              <a:ext cx="1828800" cy="10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900000" y="1449360"/>
              <a:ext cx="169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900000" y="2638440"/>
              <a:ext cx="171936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900000" y="4680000"/>
            <a:ext cx="7371000" cy="1876320"/>
            <a:chOff x="900000" y="4680000"/>
            <a:chExt cx="7371000" cy="1876320"/>
          </a:xfrm>
        </p:grpSpPr>
        <p:pic>
          <p:nvPicPr>
            <p:cNvPr id="95" name="" descr=""/>
            <p:cNvPicPr/>
            <p:nvPr/>
          </p:nvPicPr>
          <p:blipFill>
            <a:blip r:embed="rId6"/>
            <a:stretch/>
          </p:blipFill>
          <p:spPr>
            <a:xfrm>
              <a:off x="5702400" y="4707000"/>
              <a:ext cx="2568600" cy="18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7"/>
            <a:stretch/>
          </p:blipFill>
          <p:spPr>
            <a:xfrm>
              <a:off x="900000" y="4680000"/>
              <a:ext cx="291168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8"/>
            <a:stretch/>
          </p:blipFill>
          <p:spPr>
            <a:xfrm>
              <a:off x="3981600" y="4707000"/>
              <a:ext cx="1473120" cy="17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539640" y="3879720"/>
            <a:ext cx="828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Diversidade Sociocultural Brasilei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728720"/>
            <a:ext cx="77659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413000"/>
            <a:ext cx="8496000" cy="66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LABORAÇÃ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lização de 7 Seminários Regionais/Bioma e  1 Nacion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sulta ao setor empresarial e consultor S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is de 700 pessoas envolvid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728720"/>
            <a:ext cx="77659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13000"/>
            <a:ext cx="84960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71400" indent="-671400">
              <a:lnSpc>
                <a:spcPct val="101000"/>
              </a:lnSpc>
              <a:tabLst>
                <a:tab algn="l" pos="0"/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LABORAÇÃ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1400" indent="-671400">
              <a:lnSpc>
                <a:spcPct val="101000"/>
              </a:lnSpc>
              <a:tabLst>
                <a:tab algn="l" pos="0"/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1400" indent="-6714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is de 10 - Bilaterais Governo Feder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1400" indent="-671400">
              <a:lnSpc>
                <a:spcPct val="107000"/>
              </a:lnSpc>
              <a:tabLst>
                <a:tab algn="l" pos="0"/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1400" indent="-6714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- Oficina de Gest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1400" indent="-671400">
              <a:lnSpc>
                <a:spcPct val="107000"/>
              </a:lnSpc>
              <a:tabLst>
                <a:tab algn="l" pos="0"/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1400" indent="-6714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nçamento do Plano Nacional - Manaus 27 abril/2009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1400" indent="-671400">
              <a:lnSpc>
                <a:spcPct val="107000"/>
              </a:lnSpc>
              <a:tabLst>
                <a:tab algn="l" pos="0"/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1400" indent="-67140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Portaria Interministerial Nº 239 de 21 de julho de 2009 – Constituição Grupo de Coorden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857240"/>
            <a:ext cx="82040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056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056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ens e serviço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produtos finais, matérias primas ou benefícios) gerados à partir de recursos da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iodiversidad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voltados à formação d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adeias produtiva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teresse do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CTAF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povos e comunidades tradicionais e de agricultores familiares), que promovam a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anutenção e valorização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sua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ática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aber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e assegurem o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reitos decorrent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gerando renda e promovendo a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elhori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sua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qualidade de vid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 do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mbient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 que viv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76057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dutos Sociobiodiversida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268280"/>
            <a:ext cx="368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Objetivo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349360"/>
            <a:ext cx="82040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05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05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senvolver ações integradas para a promoção e fortalecimento das cadeias de produtos da sociobiodivers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0360" y="1979640"/>
            <a:ext cx="863928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35120"/>
            <a:ext cx="820908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9880" indent="-2998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EIXOS DO P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rodução e Extrativismo Sustentá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rocessos Industria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Mercado Institucional e Diferencia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Organização Social e Produti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erviços da Sociobiodiversid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iz Rebelatto</dc:creator>
  <dc:description/>
  <dc:language>en-US</dc:language>
  <cp:lastModifiedBy>Hetel</cp:lastModifiedBy>
  <dcterms:modified xsi:type="dcterms:W3CDTF">2010-03-31T00:10:08Z</dcterms:modified>
  <cp:revision>47</cp:revision>
  <dc:subject/>
  <dc:title>Plano Nacional para Promoção das Cadeias de Produtos da Sociobiodiversidade: Agregação de Valor e Consolidação de Mercados Sustent´v</dc:title>
</cp:coreProperties>
</file>